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8CF-A368-4898-935C-BB702C87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101-7294-4727-B0E8-0981C224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672-2941-48F9-B7D1-8B269B79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AF5-0932-49D1-9424-F6A8FA0B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C40-8B76-4763-A164-A7EF8BB4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B19-9E0F-4CE0-9FB3-A223B4E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407-E003-43E2-A40B-C93550F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3FC-6D79-41EF-82B9-3657EBF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948-7B7A-4806-AC44-00E64AAC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251-9E57-4336-A0C5-343A194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830-5701-422E-B64F-4425951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572-4D46-4217-B317-994B115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A77B-07E0-45CB-8905-AF5E71A7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 Vzdaj Bohu vžd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 Bohu vždy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každý ho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áchrany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 Kristov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odpustil vi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aroval m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hriechu svet hynu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pasiť ho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 Bohu vždy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z milosti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odujal n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est určený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Synovi zj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odveký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hriechu nás zb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kríži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 Bohu vždy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istot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aj nás chce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íbytku kr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nebude stra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ý je sv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v blaže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Boží má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3:38Z</dcterms:modified>
  <cp:revision>20</cp:revision>
  <dc:subject/>
  <dc:title>Je veľký náš Pán, on slávy je Kráľ Nech do všetkých strán  spev vrúcnych znie chvál.</dc:title>
</cp:coreProperties>
</file>